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wmf" ContentType="image/x-wmf"/>
  <Override PartName="/ppt/media/image4.png" ContentType="image/png"/>
  <Override PartName="/ppt/media/image5.gif" ContentType="image/gi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DD41B-B8A4-4487-AD90-3DE39C51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01C7D-0FFA-482B-9817-34007104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94FA7-C1F1-4B71-A9FC-6DAE2A320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6AC7F-6CD7-4949-BFF5-FAFECD899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BD7C-DD7E-45C8-A0B1-777E0D03F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1F4F-6662-47E0-AB5F-C9F849C0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1A69-8978-44C8-BB68-3EAB8090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E49F-BE64-41C8-986A-2F74AA0F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9161-9D72-4EEB-BC14-0B484EB4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891F-BF7E-45A8-B5C9-598D19C0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5F88-B325-4213-9469-2551C2C3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5610E-9D0C-4B91-A7D5-9ED848A5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5D82-2979-4194-95AE-702AA031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14F3-097A-47D4-9E5A-85EC68BB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154F-19AE-40D2-B890-EC558465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C9F6-681D-4AAA-92B6-961C3ED68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7AE6-841A-4867-9868-9126BCA4E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949A1-711F-4B7E-8F6D-A890D48A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90FF1-53EB-49AB-9CB3-90FF7711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FAB96-B9C7-4BDD-94E8-DEAF5022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65C5C-8860-4DC8-99B7-BF4A2913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4DA23-E03F-40F3-87F7-23070AD4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BE972-886C-4783-9CEE-4A9C0E92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6652B-2764-4766-A939-897497FC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87E2-FBB9-486D-9881-64B30E1D4E7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0230-8D8F-4668-B2C8-E172308B6A8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19160" y="1905120"/>
            <a:ext cx="609588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Текстовый редактор (процессор) 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Microsoft Word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765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сновные возможности и назначени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696080" cy="1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Строка – последовательность символов между левым и правым полем страницы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3296880"/>
            <a:ext cx="6523200" cy="25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мер строки в тек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а ст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j0323760"/>
          <p:cNvPicPr/>
          <p:nvPr/>
        </p:nvPicPr>
        <p:blipFill>
          <a:blip r:embed="rId1"/>
          <a:stretch/>
        </p:blipFill>
        <p:spPr>
          <a:xfrm>
            <a:off x="5896080" y="3124080"/>
            <a:ext cx="18572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696080" cy="1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Абзац - совокупность строк и символов, отделяемая нажатием клавиши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(маркер абзаца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¶)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416320"/>
            <a:ext cx="757872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вая строка – красная ст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евый и правый отсту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личество ст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жстрочный интерв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j0292112"/>
          <p:cNvPicPr/>
          <p:nvPr/>
        </p:nvPicPr>
        <p:blipFill>
          <a:blip r:embed="rId1"/>
          <a:stretch/>
        </p:blipFill>
        <p:spPr>
          <a:xfrm>
            <a:off x="6477120" y="3809880"/>
            <a:ext cx="181764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826560"/>
            <a:ext cx="8229600" cy="7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аница - часть текста, ограниченная линиями разделения стран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5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мер бума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иентац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книжная и альбомн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верхнее, нижнее, левое, правое и зеркаль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613400" y="1981080"/>
          <a:ext cx="4073400" cy="3886200"/>
        </p:xfrm>
        <a:graphic>
          <a:graphicData uri="http://schemas.openxmlformats.org/drawingml/2006/table">
            <a:tbl>
              <a:tblPr/>
              <a:tblGrid>
                <a:gridCol w="2038320"/>
                <a:gridCol w="2035080"/>
              </a:tblGrid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ы (м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1х1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4х8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0х5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7х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х2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х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х1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х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х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х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х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393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зд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2857680"/>
            <a:ext cx="8064360" cy="30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ичество коло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рхние и нижние колонтитулы, включая нумерацию стран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 характеристики стра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4"/>
          <p:cNvGraphicFramePr/>
          <p:nvPr/>
        </p:nvGraphicFramePr>
        <p:xfrm>
          <a:off x="379440" y="984240"/>
          <a:ext cx="8313840" cy="493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984240"/>
                    <a:ext cx="831384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1143000" y="2057400"/>
            <a:ext cx="69343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помните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олее крупные элементы текста наследуют свойства более мелких элеме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Правила набора текст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523880" y="3581280"/>
            <a:ext cx="60199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жду словами ставится только один пробел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к препинания ставится сразу за словом и только потом пробел (исключения: тире, дефис, скобки, кавычки)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печатаемые симво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14400" y="1905120"/>
          <a:ext cx="7543800" cy="4491000"/>
        </p:xfrm>
        <a:graphic>
          <a:graphicData uri="http://schemas.openxmlformats.org/drawingml/2006/table">
            <a:tbl>
              <a:tblPr/>
              <a:tblGrid>
                <a:gridCol w="1219320"/>
                <a:gridCol w="6324480"/>
              </a:tblGrid>
              <a:tr h="140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SymbolPS"/>
                          <a:ea typeface="SymbolPS"/>
                        </a:rPr>
                        <a:t>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ркер пробела (Пробел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ркер нерастяжимого пробела (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trl+Shift+</a:t>
                      </a: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бел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ркер табуляции (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ркер принудительного окончания строки (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ift+Enter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ркер конца абзаца (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er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ре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trl</a:t>
                      </a: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Серый минус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50"/>
          <p:cNvSpPr/>
          <p:nvPr/>
        </p:nvSpPr>
        <p:spPr>
          <a:xfrm>
            <a:off x="7848720" y="609480"/>
            <a:ext cx="7617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4"/>
          <p:cNvSpPr txBox="1"/>
          <p:nvPr/>
        </p:nvSpPr>
        <p:spPr>
          <a:xfrm>
            <a:off x="1295280" y="2786040"/>
            <a:ext cx="6400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99ff"/>
                  </a:solidFill>
                  <a:miter/>
                </a:ln>
                <a:solidFill>
                  <a:srgbClr val="cccce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ктическая работа</a:t>
            </a:r>
            <a:endParaRPr b="0" lang="en-US" sz="1800" spc="1" strike="noStrike">
              <a:ln w="9360">
                <a:solidFill>
                  <a:srgbClr val="9999ff"/>
                </a:solidFill>
                <a:miter/>
              </a:ln>
              <a:solidFill>
                <a:srgbClr val="cccce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кстовый редактор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кладная программа для создания, </a:t>
            </a: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редактирова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форматирова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охранения и организации печати текстового докум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>
            <a:hlinkClick r:id="rId3" action="ppaction://hlinksldjump"/>
          </p:cNvPr>
          <p:cNvSpPr/>
          <p:nvPr/>
        </p:nvSpPr>
        <p:spPr>
          <a:xfrm>
            <a:off x="7238880" y="548640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18354" y="10800"/>
                </a:moveTo>
                <a:lnTo>
                  <a:pt x="7848" y="17806"/>
                </a:lnTo>
                <a:lnTo>
                  <a:pt x="7848" y="3794"/>
                </a:lnTo>
                <a:close/>
              </a:path>
              <a:path fill="darken" w="29710" h="21600">
                <a:moveTo>
                  <a:pt x="20199" y="3794"/>
                </a:moveTo>
                <a:lnTo>
                  <a:pt x="20199" y="17806"/>
                </a:lnTo>
                <a:lnTo>
                  <a:pt x="21861" y="17806"/>
                </a:lnTo>
                <a:lnTo>
                  <a:pt x="21861" y="3794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дактирование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сс исправления, удаления, перемещения, вставки объектов в докумен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>
            <a:hlinkClick r:id="" action="ppaction://hlinkshowjump?jump=previousslide"/>
          </p:cNvPr>
          <p:cNvSpPr/>
          <p:nvPr/>
        </p:nvSpPr>
        <p:spPr>
          <a:xfrm>
            <a:off x="754380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атирование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сс оформления документа в соответствии с требова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>
            <a:hlinkClick r:id="rId1" action="ppaction://hlinksldjump"/>
          </p:cNvPr>
          <p:cNvSpPr/>
          <p:nvPr/>
        </p:nvSpPr>
        <p:spPr>
          <a:xfrm>
            <a:off x="7772400" y="56386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914400" y="2057400"/>
            <a:ext cx="75438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кумен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зафиксированная на материальном носителе информация с реквизитами, позволяющая ее идентифициро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352680" y="44197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деральный закон «Об информации, информатизации и защите информа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304920" y="2362320"/>
            <a:ext cx="852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кумент – это объект, обладающий набором свойств (характеристик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Book"/>
          <p:cNvPicPr/>
          <p:nvPr/>
        </p:nvPicPr>
        <p:blipFill>
          <a:blip r:embed="rId1"/>
          <a:stretch/>
        </p:blipFill>
        <p:spPr>
          <a:xfrm>
            <a:off x="6095880" y="4970520"/>
            <a:ext cx="20955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объекты докумен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мвол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имальный элемент текстового доку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бза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а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д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j0283195"/>
          <p:cNvPicPr/>
          <p:nvPr/>
        </p:nvPicPr>
        <p:blipFill>
          <a:blip r:embed="rId1"/>
          <a:stretch/>
        </p:blipFill>
        <p:spPr>
          <a:xfrm>
            <a:off x="5715000" y="3062160"/>
            <a:ext cx="251460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696080" cy="1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Символ – минимальный элемент текста (пробел – символ)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416320"/>
            <a:ext cx="456552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чер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Ц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риф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зи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j0310204"/>
          <p:cNvPicPr/>
          <p:nvPr/>
        </p:nvPicPr>
        <p:blipFill>
          <a:blip r:embed="rId1"/>
          <a:stretch/>
        </p:blipFill>
        <p:spPr>
          <a:xfrm>
            <a:off x="6248520" y="3581280"/>
            <a:ext cx="17398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Слово – последовательность символов, отделенная с двух сторон символами-разделителями (пробелами или знаками препинания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4035600" cy="33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Первый и последний симво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Количество символов в слове (длина слова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6"/>
          <p:cNvGraphicFramePr/>
          <p:nvPr/>
        </p:nvGraphicFramePr>
        <p:xfrm>
          <a:off x="4724280" y="2590920"/>
          <a:ext cx="39639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590920"/>
                    <a:ext cx="3963960" cy="3886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09-10-03T11:58:27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